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5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AAA-2FC2-439E-9AA8-DB126AE9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93D-9283-45EE-84F4-8C66E9B8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BC2B3-C0CC-4E4C-B2E9-9CC5E3BD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B117E-6BEE-4187-B4F9-C4855951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C75CC-B75F-4C18-9B61-225D32A2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A0AB6-B427-4666-808B-321FE0DF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3A90B-8656-4C82-AA75-001A9AAB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20484-6263-4B48-9B89-CF0BCB0D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55839-481E-4292-8C70-05BEFEEB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77168-D3CC-4E24-BD28-EA37C997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72101-7D35-4703-8248-26D5D2A8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1D451-49FD-4A46-A209-408C159A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5CB-8107-419A-9B73-1DE5150A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BDB6D-87A7-403E-8CE4-DB094A6A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99153-AEE6-48B4-9E6E-EB50A91D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1E067-7203-46D1-9D39-27A45D03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79AD0-78E2-496E-AD87-48F90E74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6D101-C2EE-43D3-BA21-8D5CC049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F5792-F455-48C4-89E2-431F50A7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368BB-45C5-47CD-881A-4FA937D8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1A7F8-08B5-41BD-AC48-E7B0E9D6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A0E1C-15E6-478E-ACC1-B8247348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A59E4-EBEE-4A9B-9C53-8506742B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692-E54A-4EE4-9A4C-E5E91835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183FE-2410-4B25-9DA8-AB3DC3BD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7AB2C-1BD5-4CD1-9F27-51ACDFBB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EA137-4391-4A1F-BF86-19FA6B3E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CB578-0C39-42A0-8F20-64195DD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9C686-D764-4B72-B077-DF91979E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5BC37-FB10-49A3-B784-77924A94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0BB5B-CD93-48B7-A9BC-62C87D5D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52A9F-1351-419F-BAE4-448B77A1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D2971-F66C-4826-AFC6-DFEBF664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ECDC2-05C4-4FB4-BA64-8781F11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3E19-4B96-4A82-872C-C2F96671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20058-0F04-4CD6-9066-3E01088F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F1605-B50D-4034-A79C-614B75DE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0F96C-B960-4368-AA50-4AA3EDDC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74550-8104-48CC-9E14-618441CE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16CFE-72CE-4DC9-87AA-854A22A8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E48A0-FD47-4DD0-9CF3-26BE8E69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0A31F-E26C-45E5-B976-553EB7D8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DF0A4-64AA-4F1A-B443-BFB623C8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535FD-90EA-4100-A1CE-FF478316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81DB2-4E82-438D-B2DB-74EC28B2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50A7-D2F8-4ED2-86CF-05741AB9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C461F-4BFD-4F91-857F-2C9377B3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E1A47-AB7C-46E7-830D-A8179588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10144-B795-44BC-A839-F23979CC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DD9FE-B2BD-4E32-A1BD-E6DD9CA0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4AAEB-B239-4092-BB42-FA3C71F5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6D53-1E90-4AB4-A1BC-66B71820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62E4-13F1-4530-AB59-30567390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0B67-9723-427D-970A-30B88CCC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5337-C17F-4949-8F81-EE423555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951D-AED0-49B7-9E3F-52A3BD7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9C8-ED70-4C84-BC4A-0E64DBCD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F908-FDAF-4914-BF4F-A526B180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A8F7-811B-4394-857E-77783A64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F5DB-D20B-4978-A66E-7A6F059D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2610-0620-4E12-90DB-A0E024C9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9A82-1C9F-4317-9E61-D41AC626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2F091-4A6B-4135-86C5-58686E98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F298-4AB2-4B85-B719-4156A70E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8622-4908-454A-9703-813EC5CE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CA22-ED80-437B-9B8F-7628FB4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FD68-1241-400D-8F94-A8CE27AE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09F-C8CF-4A8E-9565-AD180056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A0F2-BD81-4DEB-BA10-BDD68563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58B1-03AA-4C25-8ABA-BE4A337D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B17A-B5C7-4A70-B0EC-7CBC8C52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DB94A-DB27-469C-A29E-99F982DA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5F99-0D54-43AE-A8E5-60C98ED7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2765C-8A07-45D3-A615-39A56804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5B9D-7CE2-48E2-9A8D-74D745C7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E5978-1BAB-43C9-A24A-067805E6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04645-6824-43AE-84C7-F100FC20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4192F-6845-40C1-9DE9-1916E8E8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AAA-682B-456A-AC30-6595CDF2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FF8D3-3B50-431E-AD74-1831C1CC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5FDF5-34F1-4FE7-B05B-428BBD90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8A4A7-2053-4BD7-B074-D002FD40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4E53C-E41D-4B95-8DAD-FAA58EE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B9AB2-CE6A-44CD-A66E-82F9D48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FA45-0D72-486D-8921-0D7426E4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FB6E-EC69-4B3D-9A41-0FFACB14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56469-17F4-484D-A8DD-D5CA35AD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0828-654B-40D5-8C3D-880951EC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80B94-61C4-4406-91A8-FDF21A4B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CE2F-E809-4474-84C2-A6C9F3A0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B3637-BA31-4710-8E2B-5E539D1C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2DE21-0E1E-4B9E-9B14-F3301C7A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9B5B7-DACE-40B2-B926-F7ADC7B0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51B0D-7FD9-4AF6-9EB1-CF66DB4E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1D814-CA0D-4272-B5C9-49E18F24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CF0C6-050F-4FC3-970E-729BA4C1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18B75-9FCE-44D6-B219-E9E5404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8F562-622E-451D-9863-6A93A730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0FA66-D819-4152-ADC6-995C855A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16FBE-F485-4537-A706-D7F79872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DA2-732B-4F1A-9A4B-D3C527E2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F2734-92C7-4913-9710-2B63CF15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A34BF-8DC1-4C33-A499-63B5C5BA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2F6BB-8884-4D0F-8B19-4571FC51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9DB60-B9F9-4371-8853-3BD1F990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F443B-AB9C-4A28-9E81-9978DBD7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69826-175B-48E1-BE5A-ADB207C0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7419-2365-48E3-BDC9-B85E3EA4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1C0B2-3383-4A00-9A9B-19A5FE85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8686D-957C-4A1C-9D32-DDFE22AF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FB498-8CF7-407C-8FD9-123B4B99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FA7-1077-4394-8E20-1B2558C2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5E6AF-EBD4-4C5E-9E9F-55D7E46D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744CC-FE85-425B-9739-FE35BF95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A26BD-7F33-4F57-8DF6-9DC4D257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43525-55CD-4244-92C0-7C1D1FA9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A614F-A77A-4431-BFA6-A649AF13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83163-581E-4F95-AD2E-D3C78D86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91947-133C-444C-AC9D-2705B88B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6B4E3-903D-49DD-8C40-B5EA1F17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18A5D-B938-469D-923E-5472546F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F6368-AC21-4DF5-BA99-F1CFF0DB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CE7-DE7F-4736-BE0A-1301A812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3ACDD-ECC1-49F1-BD7D-76549F32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20C53-C490-4809-A6A7-AFA8613D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5BEE5-88AD-4BDC-A7CB-716079DF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03EA0-2737-4B1A-AA48-5CE6B069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16135-DCB2-4B2B-8BB3-C648405D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C39E6-0E56-4FF3-8E6E-872CA4BD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66483-BF61-433C-AB7D-71EA50ED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577D2-CA4F-4581-97CA-D9D6279E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32610-460E-4061-9ACC-9CB692CD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3A331-D1A6-44A3-92A6-2B929A1F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574-8E6A-43B4-9622-3DF074D8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92563-6D53-412B-A8D2-30388C73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E0152-3F0C-4523-8953-9E223D0F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9B0B0-A59D-441C-A110-F97ECB0F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92B6C-9E38-4978-A896-D915AD1C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274AC-8793-4639-A8E3-6BDBCF4B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85718-D928-4FCF-92AA-0FEB903A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21354-A412-4191-914D-E8470F7E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EFCB5-AA6D-44F8-89A9-7010E854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61660-BCB3-43DE-857C-31F009C8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574FD-94C5-4FE2-88E6-6D5FEF16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B6F14-B24F-4C4B-A6C8-A8CCD6112E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87D01-C543-4E95-A2BF-F1DFA4ACA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F9DFEC14-3631-4A19-A789-D6C72C1A3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B3422-B884-44F4-BC5A-22B72DD32B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6CD48-7E0C-4A2A-BD2B-7B0A389A8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B069E-1D3A-4B8D-A585-EEDE3381846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CB186-8A96-4365-A623-905602B02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460F8-640C-474A-9441-05D9386BD1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EB1DC-C03E-46E1-BF43-45D02D9C7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89FD1-51DE-4A2F-AD94-18C602D63B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2B811-CA98-4677-BAAC-C1D80C571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CE66A-9739-4A12-B550-8EE4ECE344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219A8-BC25-413F-97F5-1C0AEB9B8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05532-8AF8-4029-B7A3-2E0FE0E901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64B8D-FEB7-4DCF-BA16-C7A77B6CE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88D7A-9414-434D-A1DF-4E72CED708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6988B-0CE9-4B2C-9B82-507C12F93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61B72-C1EC-4607-BE05-EF60D06212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D22F3-5890-462B-B07C-32479942F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A9DB3-D5D8-47FE-A6C5-D96269C23A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C6AA4-5CB4-4CE2-BA31-58FE237BB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18541-95D9-495B-976F-EB6E55FE8B8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6FB02-4BF0-444B-8AAB-2328632F4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E04CA-53BF-4587-B95F-E47D9275E2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B6F31-C291-4962-8FC3-AD4A06035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6.1.2010</a:t>
            </a: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984807"/>
                </a:solidFill>
                <a:latin typeface="Blackadder ITC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Jak prvky publicity použít ?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ždy v souladu s pravidly danými v Manuálu vizuální identity OP 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iditelně umístěné a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kvalitně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provedené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Na čb originálech nutno použít předepsané inverzní varianty log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8CB5C-BC2D-4304-B524-8412A49EA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Obrázek 6" descr="Logolink_horizontal_zaklad_cb.jpg"/>
          <p:cNvPicPr/>
          <p:nvPr/>
        </p:nvPicPr>
        <p:blipFill>
          <a:blip r:embed="rId1"/>
          <a:stretch/>
        </p:blipFill>
        <p:spPr>
          <a:xfrm>
            <a:off x="2163600" y="3467160"/>
            <a:ext cx="46879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329840" y="177480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ropagační a informační materiály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: letáky, plakáty, brožury, newslettry, školicí materiály, certifikáty, prezenční listiny (logolink a povinná sdělení stačí uvést pouze na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titulní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stránce), příp. vizitky a obálky a na všech materiálech a dokumentech souvisejících s projektem (výjimkou jsou účetní doklady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ropagační předměty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tužky, bloky, flashdisky, CD.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ediální výstupy: inzeráty, tiskové zprávy, články, PPT prezentace…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Internet: webové stránky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motné zařízení pořízené z prostředků ESF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rojektová dokumentace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: pracovní smlouvy/dohody (pokud to forma dokumentu umožňuje), výroční a závěrečné zprávy, korespondence, …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ístnosti/prostory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, v nichž se konají informační akce k OP VK: umístit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vlajky EU a ČR,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a EU, ESF, MŠMT, OP 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451C6-88E8-49F5-A50C-D6D441AB3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   </a:t>
            </a: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329840" y="1784160"/>
            <a:ext cx="68850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ručka pro příjemce finanční podpory z OP VK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: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ktuální 4 verze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prirucka-pro-prijemce-op-vk-verze-4-platna-od-30-6-2010, účinná od 1.8. 2010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anuál vizuální identity OP VK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uploads/soubory/ESF/Publicita/Manual_vizual_identityOPVK.pdf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-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 pravidla  Manuálu jsou závazná pro projekty, pro něž rozhodnutí či smlouva o poskytnutí dotace nabyla účinnosti po 30. 10. 2009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etodický dopis č. 12 (18.12.09)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– upravuje použití obou logolinku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Web MŠMT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– sekce Strukturální fondy – OP VK – Pro žadatele a příjemce – Publicita: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http://www.msmt.cz/strukturalni-fondy/publicita-a-publikace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oradenství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 rámci individuálních konzultací s projektovými manažer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F1F55-F33D-4184-A0EC-81CBAA489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329840" y="104148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f3912c"/>
                </a:solidFill>
                <a:latin typeface="Calibri"/>
              </a:rPr>
              <a:t>Náhled webových stránek MŠMT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32830-4B9A-4551-A2DC-FB47BC61E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Obrázek 7" descr=""/>
          <p:cNvPicPr/>
          <p:nvPr/>
        </p:nvPicPr>
        <p:blipFill>
          <a:blip r:embed="rId1"/>
          <a:srcRect l="9588" t="2379" r="10909" b="5554"/>
          <a:stretch/>
        </p:blipFill>
        <p:spPr>
          <a:xfrm>
            <a:off x="1760400" y="1733400"/>
            <a:ext cx="5227920" cy="3783240"/>
          </a:xfrm>
          <a:prstGeom prst="rect">
            <a:avLst/>
          </a:prstGeom>
          <a:ln w="0">
            <a:noFill/>
          </a:ln>
        </p:spPr>
      </p:pic>
      <p:sp>
        <p:nvSpPr>
          <p:cNvPr id="567" name="AutoShape 8"/>
          <p:cNvSpPr/>
          <p:nvPr/>
        </p:nvSpPr>
        <p:spPr>
          <a:xfrm rot="16200000">
            <a:off x="3690000" y="2529360"/>
            <a:ext cx="652320" cy="1133640"/>
          </a:xfrm>
          <a:prstGeom prst="upArrow">
            <a:avLst>
              <a:gd name="adj1" fmla="val 50000"/>
              <a:gd name="adj2" fmla="val 5474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8"/>
          <p:cNvSpPr/>
          <p:nvPr/>
        </p:nvSpPr>
        <p:spPr>
          <a:xfrm rot="16200000">
            <a:off x="2832120" y="3817440"/>
            <a:ext cx="500040" cy="1071720"/>
          </a:xfrm>
          <a:prstGeom prst="upArrow">
            <a:avLst>
              <a:gd name="adj1" fmla="val 34000"/>
              <a:gd name="adj2" fmla="val 6006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ěkuji za pozornost.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bor CER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0" lang="cs-CZ" sz="1800" spc="-1" strike="noStrike">
                <a:solidFill>
                  <a:srgbClr val="fdeada"/>
                </a:solidFill>
                <a:latin typeface="Helvetica CE"/>
              </a:rPr>
              <a:t>petr.kraselovsky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10077-FF28-46A9-9FBD-F58B3D94B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371600" y="1815840"/>
            <a:ext cx="6283440" cy="34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Nařízení Evropské komise (ES) č. 1828/2006 čl. 8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: „…</a:t>
            </a:r>
            <a:r>
              <a:rPr b="0" i="1" lang="cs-CZ" sz="1400" spc="-1" strike="noStrike">
                <a:solidFill>
                  <a:srgbClr val="000000"/>
                </a:solidFill>
                <a:latin typeface="Helvetica CE"/>
              </a:rPr>
              <a:t>příjemce finanční podpory je povinen jasně informovat subjekty účastnící se projektu i širokou veřejnost, že projekt získal finanční prostředky v rámci operačního programu spolufinancovaného Evropským sociálním fondem (ESF)“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.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ropagace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rojektu směrem k široké a odborné veřejnosti, EU, médiím, účastníkům projektu na všech materiálech a dokumentech souvisejících s projektem (výjimkou jsou účetní doklady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Čl. 1,11,16… v Rozhodnutí – Publicita……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1083/2006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Šance využít tuto povinnost ke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 zviditelnění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svého projektu a zvýšení povědomí potenciálních žadatelů o podporu o této formě pomoci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nutí určité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záruky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kvality všem účastníkům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Zabránění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roblémům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ři kontrolách a auditech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ublicita spadá do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nepřímých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nákladů !s výjimkou! případu kdy je publicita hlavní činností projektu a tedy klíčových aktivit – pak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přímé náklady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9DFE1-C3B6-4302-A27C-729A5312A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1235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965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329840" y="178884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Informování a propagace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rojektu směrem k široké a odborné veřejnost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ravidelné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edkládání MZ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o průběhu realizace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Souhlas se začleněním na veřejně přístupný seznam příjemců ( Akceptace dle Nařízení 1828/2006 čl. 6 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inimum povinné publicity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a)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a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e46c0a"/>
                </a:solidFill>
                <a:latin typeface="Helvetica CE"/>
              </a:rPr>
              <a:t>Evropského sociálního fondu</a:t>
            </a:r>
            <a:r>
              <a:rPr b="0" lang="cs-CZ" sz="1400" spc="-1" strike="noStrike">
                <a:solidFill>
                  <a:srgbClr val="953735"/>
                </a:solidFill>
                <a:latin typeface="Helvetica C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e46c0a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e46c0a"/>
                </a:solidFill>
                <a:latin typeface="Helvetica CE"/>
              </a:rPr>
              <a:t>Evropské unie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215968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215968"/>
                </a:solidFill>
                <a:latin typeface="Helvetica CE"/>
              </a:rPr>
              <a:t>Ministerstva školství, mládeže a tělovýchovy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ffc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ffc000"/>
                </a:solidFill>
                <a:latin typeface="Helvetica CE"/>
              </a:rPr>
              <a:t>Operačního programu Vzdělávání pro konkurenceschopnost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a mají přesně vymezená pravidla použití a řazení (v rámci tzv. logolinku)  - 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Nařízení Evropské komise (ES) Čl. 9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Dodržovat pravidla pro použití 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nového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 logolinku musí příjemci u projektů, pro něž rozhodnutí či smlouva o poskytnutí dotace nabyla </a:t>
            </a:r>
            <a:r>
              <a:rPr b="0" lang="it-IT" sz="1400" spc="-1" strike="noStrike">
                <a:solidFill>
                  <a:srgbClr val="000000"/>
                </a:solidFill>
                <a:latin typeface="Helvetica CE"/>
              </a:rPr>
              <a:t>účinnosti po 30. 10. 2009.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Projekty vázané v právním aktu řídit se vždy novou verzí Příručky pro příjemce, se mohou při používání prvků povinné publicity nadále řídit pravidly platnými před 30. 10. 2009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291600" indent="-29160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669B0-8910-4AAC-9572-041FE963F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Jaká je posloupnost log v logolinku?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29840" y="195228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Za logo OP VK může příjemce v logolinku přidat své logo a příp. logo partnera !pozor! nikoliv logo projektu. 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o oficiálního partnera se uvádí vždy až za základní logolink a logo příjemce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ravidla OP VK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nezakazují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příjemci užít v rámci realizace projektu další loga či označení, než je předepsaný a definovaný logolink, může se jednat např. o loga dalších subjektů, které pomáhají s realizací projektu, i když nejsou oficiální finanční nebo nefinanční partneři, uvedení v projektu nebo např. o logo samotného projektu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Tato loga se však nemohou stát součástí oficiálního logolinku projektu, ale musí být uváděna odděleně v jiné části materiálu, tak aby nemohla být považována za součást oficiálního logolinku a nepůsobila dominantněji. Publicita, kterou příjemce umožní dalším subjektům musí odpovídat míře  jejich přispění k realizaci projektu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131A6-E771-4884-8196-78CDB7105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   </a:t>
            </a: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Zásady používání publici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04480" y="1784160"/>
            <a:ext cx="719316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420120" indent="-317520" algn="just">
              <a:spcBef>
                <a:spcPts val="349"/>
              </a:spcBef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S logolinky používáme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b) slogan : INVESTICE DO ROZVOJE VZDĚLÁVÁNÍ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(povinné sdělení 1):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!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zor! na umístění ve vertikálním a horizontálním logolinku – centrování – INVESTMENTS IN EDUCATION DEVELOPMENT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 případě použití logolinku bez slovního odkazu na ESF je nutno používat i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ovinné sdělení 2 - Tento program/projekt/produkt je spolufinancován  Evropským sociálním fondem a státním rozpočtem České republiky.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jimkou jsou rozměrově menší materiály a předměty. (</a:t>
            </a:r>
            <a:r>
              <a:rPr b="0" lang="en-US" sz="1400" spc="-1" strike="noStrike">
                <a:solidFill>
                  <a:srgbClr val="000000"/>
                </a:solidFill>
                <a:latin typeface="Helvetica CE"/>
              </a:rPr>
              <a:t>This project (product) is co-financed by the European Social Fund and the state budget of the Czech Republic.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Na materiálech menšího rozměru lze loga uvést i bez textů (!pozor!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logo EU vždy s textem)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. Zkrácený logolink neobsahuje logo MŠMT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inimální povolená velikost loga ESF je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6 mm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na výšku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o MŠMT může být s textem i bez textu. Na základě výjimky z Manuálu udělené 27. 3. 2009 je minimální přípustná velikost loga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s textem 1,5 cm = 15 mm na šířk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o OP VK může být s textem i bez textu. Minimální velikost loga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s textem je 1,5 cm na šířku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520CC-EF59-45CD-BED5-BA4AFBB40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29840" y="892080"/>
            <a:ext cx="645804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                     </a:t>
            </a: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Logo</a:t>
            </a: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         v Č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145880" y="1951200"/>
            <a:ext cx="71247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Logo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(z řeckého </a:t>
            </a:r>
            <a:r>
              <a:rPr b="0" i="1" lang="cs-CZ" sz="1400" spc="-1" strike="noStrike">
                <a:solidFill>
                  <a:srgbClr val="000000"/>
                </a:solidFill>
                <a:latin typeface="Helvetica CE"/>
              </a:rPr>
              <a:t>logos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= slovo, řeč, zákon, pojem…) je označení organizace, programu, projektu atd. ve speciálním grafickém provedení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Nařízení Komise (ES) č. 1159/2000 </a:t>
            </a:r>
            <a:r>
              <a:rPr b="0" i="1" lang="cs-CZ" sz="1400" spc="-1" strike="noStrike">
                <a:solidFill>
                  <a:srgbClr val="000000"/>
                </a:solidFill>
                <a:latin typeface="Helvetica CE"/>
              </a:rPr>
              <a:t>ukládá jednotlivým členským státům povinnost usilovat o jednotnou vizuální podobu těch informačních a propagačních opatření, které se vztahují k pomoci ze strukturálních fondů. (Sv.L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Logo ESF (autorka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Edita Plzáková, 2003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)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ychází z barev Evropské Unie a jeho symbolů - hvězd. Logo je složeno ze dvou vzájemně propojených částí - modrá plocha se zvětšujícími se hvězdami, které vyjadřují vstup ČR do EU a stylizovanou zkratku ESF. Logo může být používáno samostatně nebo s vypsaným názvem "evropský sociální fond". Logo je vytvořeno ve dvou jazykových mutacích: české a anglické, přičemž samotné logo zůstává stejné a mění se pouze přídavný text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izuální identita loga je využívána při všech příležitostech vztahujících se k řízení a publicitě programů spolufinancovaných z ESF tak, aby si cílové skupiny pomoci byly vědomi faktu, že příslušný projekt je spolufinancován právě z ESF a zároveň bylo zvýšeno povědomí veřejnosti o této formě pomoci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290D7-07E6-4301-9A4E-4DD691886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4299120" y="1143000"/>
            <a:ext cx="76356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926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  <a:ea typeface="Arial"/>
              </a:rPr>
              <a:t>Logotypy strukturálních fondů zemí EU</a:t>
            </a:r>
            <a:br>
              <a:rPr sz="2000"/>
            </a:br>
            <a:r>
              <a:rPr b="1" i="1" lang="cs-CZ" sz="2000" spc="-1" strike="noStrike">
                <a:solidFill>
                  <a:srgbClr val="f3912c"/>
                </a:solidFill>
                <a:latin typeface="Calibri"/>
                <a:ea typeface="Arial"/>
              </a:rPr>
              <a:t>Lotyšsko, ČR, Francie, Malta, Holandsko….</a:t>
            </a:r>
            <a:endParaRPr b="1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EDBAD-3C5B-4E8C-977F-B5453CAB3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7" descr=""/>
          <p:cNvPicPr/>
          <p:nvPr/>
        </p:nvPicPr>
        <p:blipFill>
          <a:blip r:embed="rId1"/>
          <a:stretch/>
        </p:blipFill>
        <p:spPr>
          <a:xfrm>
            <a:off x="1004760" y="2127240"/>
            <a:ext cx="1819440" cy="1104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"/>
          <p:cNvPicPr/>
          <p:nvPr/>
        </p:nvPicPr>
        <p:blipFill>
          <a:blip r:embed="rId2"/>
          <a:stretch/>
        </p:blipFill>
        <p:spPr>
          <a:xfrm>
            <a:off x="1004760" y="3232080"/>
            <a:ext cx="1995480" cy="11019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"/>
          <p:cNvPicPr/>
          <p:nvPr/>
        </p:nvPicPr>
        <p:blipFill>
          <a:blip r:embed="rId3"/>
          <a:stretch/>
        </p:blipFill>
        <p:spPr>
          <a:xfrm>
            <a:off x="1330200" y="4686480"/>
            <a:ext cx="1024200" cy="5378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4"/>
          <a:stretch/>
        </p:blipFill>
        <p:spPr>
          <a:xfrm>
            <a:off x="3867120" y="2208240"/>
            <a:ext cx="903240" cy="793800"/>
          </a:xfrm>
          <a:prstGeom prst="rect">
            <a:avLst/>
          </a:prstGeom>
          <a:ln w="0">
            <a:noFill/>
          </a:ln>
        </p:spPr>
      </p:pic>
      <p:pic>
        <p:nvPicPr>
          <p:cNvPr id="540" name="Obrázek 9" descr="C:\Documents and Settings\kraselovskyp\Plocha\Logo historie\Erdf logo_soubory\images_011.jpeg"/>
          <p:cNvPicPr/>
          <p:nvPr/>
        </p:nvPicPr>
        <p:blipFill>
          <a:blip r:embed="rId5"/>
          <a:stretch/>
        </p:blipFill>
        <p:spPr>
          <a:xfrm>
            <a:off x="3514680" y="3313080"/>
            <a:ext cx="1909800" cy="752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"/>
          <p:cNvPicPr/>
          <p:nvPr/>
        </p:nvPicPr>
        <p:blipFill>
          <a:blip r:embed="rId6"/>
          <a:stretch/>
        </p:blipFill>
        <p:spPr>
          <a:xfrm>
            <a:off x="5673600" y="2127240"/>
            <a:ext cx="2419560" cy="11858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"/>
          <p:cNvPicPr/>
          <p:nvPr/>
        </p:nvPicPr>
        <p:blipFill>
          <a:blip r:embed="rId7"/>
          <a:stretch/>
        </p:blipFill>
        <p:spPr>
          <a:xfrm>
            <a:off x="6256440" y="3476520"/>
            <a:ext cx="1280880" cy="1040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"/>
          <p:cNvPicPr/>
          <p:nvPr/>
        </p:nvPicPr>
        <p:blipFill>
          <a:blip r:embed="rId8"/>
          <a:stretch/>
        </p:blipFill>
        <p:spPr>
          <a:xfrm>
            <a:off x="3514680" y="4259160"/>
            <a:ext cx="1643040" cy="1069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5" descr=""/>
          <p:cNvPicPr/>
          <p:nvPr/>
        </p:nvPicPr>
        <p:blipFill>
          <a:blip r:embed="rId9"/>
          <a:stretch/>
        </p:blipFill>
        <p:spPr>
          <a:xfrm>
            <a:off x="6093000" y="4954680"/>
            <a:ext cx="2000160" cy="37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Zásady používání publicity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329840" y="1952280"/>
            <a:ext cx="6458040" cy="33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Nutno dodržet nejmenší povolené velikosti log, předepsané barvy, ochranné zóny a další náležitosti dané v Manuálu vizuální identity OP 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společně s logem ESF se v ČR zároveň vždy používá také vlajka EU (1955,1986,1992-3) s textem Evropská unie. </a:t>
            </a:r>
            <a:r>
              <a:rPr b="0" lang="pt-BR" sz="1400" spc="-1" strike="noStrike">
                <a:solidFill>
                  <a:srgbClr val="000000"/>
                </a:solidFill>
                <a:latin typeface="Helvetica CE"/>
              </a:rPr>
              <a:t>Logo ESF a vlajka EU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usí mít </a:t>
            </a:r>
            <a:r>
              <a:rPr b="1" lang="pt-BR" sz="1400" spc="-1" strike="noStrike">
                <a:solidFill>
                  <a:srgbClr val="000000"/>
                </a:solidFill>
                <a:latin typeface="Helvetica CE"/>
              </a:rPr>
              <a:t>shodnou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Helvetica CE"/>
              </a:rPr>
              <a:t>barevnost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zdálenost mezi vlajkou EU a logem ESF musí být vždy na šířku nožičky písmena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„f“ , u navazujících log buď na šířku nožičky „f“ nebo na výšku horní části „vlajky“ loga ESF</a:t>
            </a:r>
            <a:r>
              <a:rPr b="1" lang="cs-CZ" sz="1400" spc="-1" strike="noStrike">
                <a:solidFill>
                  <a:srgbClr val="ffffff"/>
                </a:solidFill>
                <a:latin typeface="Helvetica CE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šechna loga horizontálního logolinku jsou zarovnána k hornímu a dolnímu okraji loga ESF. Zkrácený logolink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nemusí obsahovat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logo MŠMT.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124D4-A8F4-4B27-9D1F-154773FF4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9" descr=""/>
          <p:cNvPicPr/>
          <p:nvPr/>
        </p:nvPicPr>
        <p:blipFill>
          <a:blip r:embed="rId1"/>
          <a:stretch/>
        </p:blipFill>
        <p:spPr>
          <a:xfrm>
            <a:off x="1838160" y="3822840"/>
            <a:ext cx="1478160" cy="969840"/>
          </a:xfrm>
          <a:prstGeom prst="rect">
            <a:avLst/>
          </a:prstGeom>
          <a:ln w="0">
            <a:noFill/>
          </a:ln>
        </p:spPr>
      </p:pic>
      <p:pic>
        <p:nvPicPr>
          <p:cNvPr id="549" name="Obrázek 11" descr=""/>
          <p:cNvPicPr/>
          <p:nvPr/>
        </p:nvPicPr>
        <p:blipFill>
          <a:blip r:embed="rId2"/>
          <a:stretch/>
        </p:blipFill>
        <p:spPr>
          <a:xfrm>
            <a:off x="3559320" y="4040280"/>
            <a:ext cx="2571480" cy="714240"/>
          </a:xfrm>
          <a:prstGeom prst="rect">
            <a:avLst/>
          </a:prstGeom>
          <a:ln w="0">
            <a:noFill/>
          </a:ln>
        </p:spPr>
      </p:pic>
      <p:pic>
        <p:nvPicPr>
          <p:cNvPr id="550" name="Obrázek 6" descr="Logolink_horiz_zkraceny_text_RGB.jpg"/>
          <p:cNvPicPr/>
          <p:nvPr/>
        </p:nvPicPr>
        <p:blipFill>
          <a:blip r:embed="rId3"/>
          <a:stretch/>
        </p:blipFill>
        <p:spPr>
          <a:xfrm>
            <a:off x="6130800" y="3860640"/>
            <a:ext cx="264348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f3912c"/>
                </a:solidFill>
                <a:latin typeface="Calibri"/>
              </a:rPr>
              <a:t>Zásady používání publici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133280" y="1787400"/>
            <a:ext cx="7095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!pozor!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státní vlajku ČR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užívá na svých dokumentech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ouze řídící orgán (MŠMT)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ZS ani příjemce vlajku ČR nepoužijí. Příjemce může přiřadit za logo OP VK další loga příjemce a partnera (!nikoli! logo projektu)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á-li projekt více partnerů, umístění log partnerů do logolinku za logo příjemce se z důvodu komplikovanosti takového logolinku nedoporučuje, partnery projektu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Helvetica CE"/>
              </a:rPr>
              <a:t>lze zmínit např. v textu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daného informačního nebo propagačního materiálu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motné zařízení a vybavení (vč. publikací, učebnic,…) pořízené z prostředků ESF - </a:t>
            </a: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samolepky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 určené k označování tohoto zařízení obsahují vždy základní logolink OP VK (včetně textů u log a sloganu), na rozměrově menších samolepkách lze vynechat logo MŠMT, avšak u ostatních log je nutno zachovat text.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Malé propagační předměty (post-it, vizitka, flash disk, tužky,…): zkrácený logolink, možno i bez sloganu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201A3-7BF4-4AD4-AE8A-28D9817AF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22T12:01:30Z</dcterms:modified>
  <cp:revision>38</cp:revision>
  <dc:subject/>
  <dc:title>Titulní strana – Titulek</dc:title>
</cp:coreProperties>
</file>